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dt" idx="22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move the slide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 type="ftr" idx="23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6"/>
          <p:cNvSpPr>
            <a:spLocks noGrp="1"/>
          </p:cNvSpPr>
          <p:nvPr>
            <p:ph type="sldNum" idx="24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86E04-D32B-4CC9-A425-717225D138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5D1F9-1DE8-4CD9-98DD-5DE5D9471CE4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C7B4E-DD03-496C-B812-6C7388FF8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5F3DB-831A-4F3C-AF84-FA999AC6B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D60B6-A2D0-4AB5-8DF2-11BC457B9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D5120-6537-4D15-AD88-56935DCC0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E74BB-B546-44CA-A068-355385034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427BD-26C1-4DA3-B169-3C5B03109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A3C89-B456-4F8A-8473-1AC90711A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228AD-F2EA-4B04-A151-BA20B7ABD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E6655-4E5D-4FB9-831A-CEAAE780D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9D0E2-2F69-4717-9830-EF94D03C7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05D5C-86F9-44CC-A3C6-609B5669E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0E6AE-7BCD-4B71-A16D-67E1E5F84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1814E-6B81-4E88-8D72-33B77A735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5250A-7126-48CE-929D-2BE8A0CE2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D4ED4-11C2-4BBE-9522-7FFC2859D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E259D-27FB-418F-8078-0DDB933A6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E5840-A441-4F4F-99E4-D157FFA8C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E51858-9FBB-45ED-B4A0-E45D785F1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7B86D7-132E-44FA-9775-97226D2C2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406B15-78AD-4A50-8408-8572BBCFF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2EF868-9F93-40A1-80DD-51F5E1E98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BE341D-771B-4B3B-94A0-14BF4F6CF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72FDE-3924-4DCE-977D-B8BC6EB50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3D976F-B7ED-417F-918B-34F01694D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2E26B5-2581-4BEC-B50C-794D6C45F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BED9F7-8F0E-46F9-9C86-63C46CD0E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93F6C8-6C69-49DC-A903-8486B5923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47DCEB-74E1-4BCC-92B7-4FB4720FA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5D5AC3-BA02-4234-8AE6-B71EC7695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50D718-9BAF-4414-8DF3-EA189685F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9428DC-168C-4C1F-AEA6-319D81AE9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31BFA8-7D48-45B9-998E-A6C54FFD2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D95371-CF67-462E-B486-B1E3BA098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DA7C1-B444-4DC9-B0E4-7F590F451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E75BF6-1BDD-4DAE-864D-CD3666A10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BE169C-3E0E-4ADC-84AB-E0107DBDA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CDDBA7-601B-4277-B698-F70C449A2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318126-DA6A-4C97-956F-3E432175A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F56C4A-1776-42AA-AD39-B9EE13FC0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08039D-716D-472F-8961-70D231F78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BE71F8-106E-4D80-B29B-0F41B8180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0E5AD7-7291-4FB2-8814-EC8326C45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1AB552-DAEC-4FEE-AA1B-314596FCD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5673D9-3AC7-4D13-9966-40D915FBB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0F36C-28A9-453C-9315-02424D013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7071EF-BEB6-41C7-AC99-8470F9991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696430-8B40-4421-83ED-E062E0D79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793129-D265-47FA-9E7E-7FFCE1B43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AD84DC-F2EB-4703-A1B8-B9639E882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5BB6C2-F858-4159-A3DA-07B9F9136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F47BC2-2884-49D1-9426-B5A8C2E60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CC4F6F-59A5-41CD-8692-D7D91EDA3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B4B704-1593-41D5-9C59-17B1ADC77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1C9414-BEB5-46EC-A125-889D7BCAE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C4770B-7B6B-4B57-8566-DECC49DE0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7C344-B131-425D-BAF4-D7E36F6FD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6CA61B-684C-42CE-AA09-7DA31911C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1DEF15A-5931-4D77-9C25-DB4A8E18B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1074B31-58A3-494F-9BA3-5293451E7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AEF9769-BC14-423A-9144-962A7F97C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65115B4-8D72-4826-B79A-DC6DC47C2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18CF25A-59F9-4E6A-9B70-AB66A5407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09C46A8-D624-4B2B-A2C7-681A8CAEB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35B7C52-23B1-4C2C-8FCE-3E1C20C03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3E397D9-1889-4DD8-BBD5-12183AE06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1314998-9C33-4F07-9694-1B88D90A2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78E43-4A8B-4960-9AC0-879B10C9E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FC71423-3F7D-4792-9796-73E0013E4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00991A2-6652-4756-811F-A814AB2B6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77046C8-53A2-4962-8216-A5F099035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3D2D0B-1E0C-42B1-A78E-750787E50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82C989-93F5-4D67-AB11-FCE9DE217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05E14D-CCF0-40A2-88CE-1A3F2FFDD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A76971-CCA0-48F0-9450-D5B3D3D11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399815-66F4-4120-B8B9-9BB7A5943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A9036A-E6DA-4888-B639-4B3C0DDFE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F811EF-34E5-421A-A64B-DD57FFAC4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1CD3E-3CC0-4A44-8018-3F2766258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0FCC9A-9D2E-4C29-9534-F5D0FB507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A99FC3-C5BD-491F-B6CD-CDB2495A8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C83349-967C-482C-A460-D39789546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AB54FB-4A76-41ED-95F0-91210C0DD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8C4D0A-A91F-49A9-9079-DA8BD62C5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164C0-7606-4039-9682-BE7A6EE83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Rounded Rectangle 6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E87C6-DA92-4887-98E7-AA3D39C7DB35}" type="datetime">
              <a:rPr b="0" lang="en-US" sz="1200" spc="-1" strike="noStrike">
                <a:solidFill>
                  <a:srgbClr val="564b3c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FF9B8-08B7-4AD6-A91E-131CF515A570}" type="slidenum">
              <a:rPr b="0" lang="en-US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Rectangle 8"/>
          <p:cNvGrpSpPr/>
          <p:nvPr/>
        </p:nvGrpSpPr>
        <p:grpSpPr>
          <a:xfrm>
            <a:off x="274680" y="281160"/>
            <a:ext cx="8594640" cy="1322280"/>
            <a:chOff x="274680" y="281160"/>
            <a:chExt cx="8594640" cy="1322280"/>
          </a:xfrm>
        </p:grpSpPr>
        <p:pic>
          <p:nvPicPr>
            <p:cNvPr id="7" name="Rectangle 8" descr=""/>
            <p:cNvPicPr/>
            <p:nvPr/>
          </p:nvPicPr>
          <p:blipFill>
            <a:blip r:embed="rId3"/>
            <a:stretch/>
          </p:blipFill>
          <p:spPr>
            <a:xfrm>
              <a:off x="274680" y="284040"/>
              <a:ext cx="8594640" cy="131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" name=""/>
            <p:cNvSpPr/>
            <p:nvPr/>
          </p:nvSpPr>
          <p:spPr>
            <a:xfrm>
              <a:off x="274680" y="281160"/>
              <a:ext cx="8594640" cy="13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9" name="Rectangle 9"/>
          <p:cNvSpPr/>
          <p:nvPr/>
        </p:nvSpPr>
        <p:spPr>
          <a:xfrm>
            <a:off x="372960" y="372960"/>
            <a:ext cx="8380440" cy="111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8" name="Rounded Rectangle 11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49" name="Rectangle 12"/>
          <p:cNvGrpSpPr/>
          <p:nvPr/>
        </p:nvGrpSpPr>
        <p:grpSpPr>
          <a:xfrm>
            <a:off x="347760" y="2944800"/>
            <a:ext cx="7143480" cy="2462400"/>
            <a:chOff x="347760" y="2944800"/>
            <a:chExt cx="7143480" cy="2462400"/>
          </a:xfrm>
        </p:grpSpPr>
        <p:pic>
          <p:nvPicPr>
            <p:cNvPr id="50" name="Rectangle 12" descr=""/>
            <p:cNvPicPr/>
            <p:nvPr/>
          </p:nvPicPr>
          <p:blipFill>
            <a:blip r:embed="rId3"/>
            <a:stretch/>
          </p:blipFill>
          <p:spPr>
            <a:xfrm>
              <a:off x="349200" y="2945880"/>
              <a:ext cx="7139880" cy="246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347760" y="2944800"/>
              <a:ext cx="7143480" cy="24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52" name="Rectangle 13"/>
          <p:cNvGrpSpPr/>
          <p:nvPr/>
        </p:nvGrpSpPr>
        <p:grpSpPr>
          <a:xfrm>
            <a:off x="7570800" y="2944800"/>
            <a:ext cx="1195200" cy="2462400"/>
            <a:chOff x="7570800" y="2944800"/>
            <a:chExt cx="1195200" cy="2462400"/>
          </a:xfrm>
        </p:grpSpPr>
        <p:pic>
          <p:nvPicPr>
            <p:cNvPr id="53" name="Rectangle 13" descr=""/>
            <p:cNvPicPr/>
            <p:nvPr/>
          </p:nvPicPr>
          <p:blipFill>
            <a:blip r:embed="rId4"/>
            <a:stretch/>
          </p:blipFill>
          <p:spPr>
            <a:xfrm>
              <a:off x="7570800" y="2944800"/>
              <a:ext cx="1195200" cy="246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7572240" y="2944800"/>
              <a:ext cx="1190880" cy="245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55" name="Rectangle 14"/>
          <p:cNvSpPr/>
          <p:nvPr/>
        </p:nvSpPr>
        <p:spPr>
          <a:xfrm>
            <a:off x="7711920" y="3137040"/>
            <a:ext cx="911520" cy="2074680"/>
          </a:xfrm>
          <a:prstGeom prst="rect">
            <a:avLst/>
          </a:prstGeom>
          <a:solidFill>
            <a:srgbClr val="b5ae53">
              <a:alpha val="70000"/>
            </a:srgbClr>
          </a:solidFill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6" name="Rectangle 15"/>
          <p:cNvSpPr/>
          <p:nvPr/>
        </p:nvSpPr>
        <p:spPr>
          <a:xfrm>
            <a:off x="446040" y="3056040"/>
            <a:ext cx="6946920" cy="224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" name="Rectangle 16"/>
          <p:cNvSpPr/>
          <p:nvPr/>
        </p:nvSpPr>
        <p:spPr>
          <a:xfrm>
            <a:off x="541440" y="4559400"/>
            <a:ext cx="6756120" cy="66348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" name="Rectangle 17"/>
          <p:cNvSpPr/>
          <p:nvPr/>
        </p:nvSpPr>
        <p:spPr>
          <a:xfrm>
            <a:off x="539640" y="3139920"/>
            <a:ext cx="6759720" cy="2076480"/>
          </a:xfrm>
          <a:prstGeom prst="rect">
            <a:avLst/>
          </a:prstGeom>
          <a:noFill/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C9112-234F-4AC3-BE8B-7910CA1B4875}" type="datetime">
              <a:rPr b="0" lang="en-US" sz="1200" spc="-1" strike="noStrike">
                <a:solidFill>
                  <a:srgbClr val="564b3c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786800" y="4626000"/>
            <a:ext cx="761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800" spc="-1" strike="noStrike">
                <a:solidFill>
                  <a:srgbClr val="47534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CE4A7-36D0-49B0-B427-8AB7F1152118}" type="slidenum">
              <a:rPr b="0" lang="en-US" sz="2800" spc="-1" strike="noStrike">
                <a:solidFill>
                  <a:srgbClr val="47534c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1" name="Rounded Rectangle 11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102" name="Rectangle 12"/>
          <p:cNvGrpSpPr/>
          <p:nvPr/>
        </p:nvGrpSpPr>
        <p:grpSpPr>
          <a:xfrm>
            <a:off x="450720" y="2944800"/>
            <a:ext cx="8266320" cy="2468520"/>
            <a:chOff x="450720" y="2944800"/>
            <a:chExt cx="8266320" cy="2468520"/>
          </a:xfrm>
        </p:grpSpPr>
        <p:pic>
          <p:nvPicPr>
            <p:cNvPr id="103" name="Rectangle 12" descr=""/>
            <p:cNvPicPr/>
            <p:nvPr/>
          </p:nvPicPr>
          <p:blipFill>
            <a:blip r:embed="rId3"/>
            <a:stretch/>
          </p:blipFill>
          <p:spPr>
            <a:xfrm>
              <a:off x="450720" y="2944800"/>
              <a:ext cx="8266320" cy="246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452520" y="2946240"/>
              <a:ext cx="8264520" cy="246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05" name="Rectangle 13"/>
          <p:cNvSpPr/>
          <p:nvPr/>
        </p:nvSpPr>
        <p:spPr>
          <a:xfrm>
            <a:off x="568440" y="3048120"/>
            <a:ext cx="8032680" cy="224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676440" y="4541760"/>
            <a:ext cx="7816680" cy="66348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7" name="Rectangle 15"/>
          <p:cNvSpPr/>
          <p:nvPr/>
        </p:nvSpPr>
        <p:spPr>
          <a:xfrm>
            <a:off x="676440" y="3124080"/>
            <a:ext cx="7816680" cy="2078280"/>
          </a:xfrm>
          <a:prstGeom prst="rect">
            <a:avLst/>
          </a:prstGeom>
          <a:noFill/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59C98-7A20-43A6-9B26-C2D6EE63F048}" type="datetime">
              <a:rPr b="0" lang="en-US" sz="1200" spc="-1" strike="noStrike">
                <a:solidFill>
                  <a:srgbClr val="564b3c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32DFB-7298-46A9-A7C8-1EEDD3A65DE8}" type="slidenum">
              <a:rPr b="0" lang="en-US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0" name="Rounded Rectangle 11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80A4E-A03D-4A39-A815-1F26DB1E0A52}" type="datetime">
              <a:rPr b="0" lang="en-US" sz="1200" spc="-1" strike="noStrike">
                <a:solidFill>
                  <a:srgbClr val="564b3c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13181-093C-4F70-95AC-F0389980D01C}" type="slidenum">
              <a:rPr b="0" lang="en-US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3" name="Rounded Rectangle 11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194" name="Rectangle 12"/>
          <p:cNvGrpSpPr/>
          <p:nvPr/>
        </p:nvGrpSpPr>
        <p:grpSpPr>
          <a:xfrm>
            <a:off x="560520" y="1504800"/>
            <a:ext cx="2719080" cy="3524400"/>
            <a:chOff x="560520" y="1504800"/>
            <a:chExt cx="2719080" cy="3524400"/>
          </a:xfrm>
        </p:grpSpPr>
        <p:pic>
          <p:nvPicPr>
            <p:cNvPr id="195" name="Rectangle 12" descr=""/>
            <p:cNvPicPr/>
            <p:nvPr/>
          </p:nvPicPr>
          <p:blipFill>
            <a:blip r:embed="rId3"/>
            <a:stretch/>
          </p:blipFill>
          <p:spPr>
            <a:xfrm>
              <a:off x="560520" y="1504800"/>
              <a:ext cx="2719080" cy="352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560520" y="1504800"/>
              <a:ext cx="2716200" cy="352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97" name="Rectangle 13"/>
          <p:cNvSpPr/>
          <p:nvPr/>
        </p:nvSpPr>
        <p:spPr>
          <a:xfrm>
            <a:off x="676440" y="1643040"/>
            <a:ext cx="2484360" cy="3233880"/>
          </a:xfrm>
          <a:prstGeom prst="rect">
            <a:avLst/>
          </a:prstGeom>
          <a:solidFill>
            <a:srgbClr val="ffffff"/>
          </a:solidFill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6EC33-1192-4227-AEE0-DFD25D816F5C}" type="datetime">
              <a:rPr b="0" lang="en-US" sz="1200" spc="-1" strike="noStrike">
                <a:solidFill>
                  <a:srgbClr val="564b3c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1A0E9-1037-48F1-9091-6C13C2881EFF}" type="slidenum">
              <a:rPr b="0" lang="en-US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0" name="Rounded Rectangle 11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241" name="Rectangle 12"/>
          <p:cNvGrpSpPr/>
          <p:nvPr/>
        </p:nvGrpSpPr>
        <p:grpSpPr>
          <a:xfrm>
            <a:off x="689040" y="4956120"/>
            <a:ext cx="7772040" cy="1371240"/>
            <a:chOff x="689040" y="4956120"/>
            <a:chExt cx="7772040" cy="1371240"/>
          </a:xfrm>
        </p:grpSpPr>
        <p:pic>
          <p:nvPicPr>
            <p:cNvPr id="242" name="Rectangle 12" descr=""/>
            <p:cNvPicPr/>
            <p:nvPr/>
          </p:nvPicPr>
          <p:blipFill>
            <a:blip r:embed="rId3"/>
            <a:stretch/>
          </p:blipFill>
          <p:spPr>
            <a:xfrm>
              <a:off x="691920" y="4959000"/>
              <a:ext cx="7769160" cy="136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"/>
            <p:cNvSpPr/>
            <p:nvPr/>
          </p:nvSpPr>
          <p:spPr>
            <a:xfrm>
              <a:off x="689040" y="4956120"/>
              <a:ext cx="7769160" cy="136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44" name="Rectangle 13"/>
          <p:cNvSpPr/>
          <p:nvPr/>
        </p:nvSpPr>
        <p:spPr>
          <a:xfrm>
            <a:off x="762120" y="5029200"/>
            <a:ext cx="7600680" cy="120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5" name="Rectangle 14"/>
          <p:cNvSpPr/>
          <p:nvPr/>
        </p:nvSpPr>
        <p:spPr>
          <a:xfrm>
            <a:off x="914400" y="5638680"/>
            <a:ext cx="7327800" cy="45252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6" name="Rectangle 15"/>
          <p:cNvSpPr/>
          <p:nvPr/>
        </p:nvSpPr>
        <p:spPr>
          <a:xfrm>
            <a:off x="604800" y="5075280"/>
            <a:ext cx="79470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A668C-BAD4-44D3-A0AE-AB4E05F1F9D8}" type="datetime">
              <a:rPr b="0" lang="en-US" sz="1200" spc="-1" strike="noStrike">
                <a:solidFill>
                  <a:srgbClr val="564b3c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sldNum" idx="1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D2FC9-02BE-47BC-A580-E254FB6D9DBA}" type="slidenum">
              <a:rPr b="0" lang="en-US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ftr" idx="1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10"/>
          <p:cNvSpPr/>
          <p:nvPr/>
        </p:nvSpPr>
        <p:spPr>
          <a:xfrm>
            <a:off x="6861240" y="228600"/>
            <a:ext cx="1860480" cy="6122880"/>
          </a:xfrm>
          <a:prstGeom prst="rect">
            <a:avLst/>
          </a:prstGeom>
          <a:solidFill>
            <a:srgbClr val="ffffff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9" name="Rectangle 11"/>
          <p:cNvSpPr/>
          <p:nvPr/>
        </p:nvSpPr>
        <p:spPr>
          <a:xfrm>
            <a:off x="6954840" y="351000"/>
            <a:ext cx="1673280" cy="5876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FE01C-60DD-401F-85DE-7FAD14120510}" type="datetime">
              <a:rPr b="0" lang="en-US" sz="1200" spc="-1" strike="noStrike">
                <a:solidFill>
                  <a:srgbClr val="564b3c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74DF1-99A1-4572-82E2-8C47501E69C7}" type="slidenum">
              <a:rPr b="0" lang="en-US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etrokids.com/MetroKids/November-2012/Bullies-parents-can-be-sued/" TargetMode="External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gremlindog.com/category/random-ridiculous/" TargetMode="External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quebec.huffingtonpost.ca/senator-mobina-jaffer/similarites-cyberintimidation-intimidation-en-personne_b_3660533.html" TargetMode="Externa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17gJPpy1XX0" TargetMode="Externa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stopbullying.gov/at-risk/effects/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tidesinc.org/2012/06/18/let-go/" TargetMode="Externa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shutterstock.com/pic-102244813/stock-photo-crowd-of-sports-spectators-seamless-repeats-horizontally-and-can-be-stacked-vertically-to-make-a.html" TargetMode="External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deanradin.blogspot.com/2013/04/show-me-evidence.html" TargetMode="External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sodahead.com/living/if-either-your-parents-threaten-to-hurt-you-physically-would-you-believe-them-do-you-think-they-lov/question-755459/?link=ibaf&amp;q=&amp;esrc=s" TargetMode="External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jactherat.wordpress.com/2012/10/13/bullying-a-lifetime-calling/" TargetMode="External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hungryforgodsword.blogspot.com/2012/03/looking-at-each-other-for-lifetime.html" TargetMode="External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642600" y="4648320"/>
            <a:ext cx="65530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AMREEN GILL </a:t>
            </a:r>
            <a:endParaRPr b="0" lang="en-US" sz="18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title"/>
          </p:nvPr>
        </p:nvSpPr>
        <p:spPr>
          <a:xfrm>
            <a:off x="604440" y="3227040"/>
            <a:ext cx="662940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47534c"/>
                </a:solidFill>
                <a:latin typeface="Book Antiqua"/>
              </a:rPr>
              <a:t>LA CYBERINTIMIDATION </a:t>
            </a:r>
            <a:endParaRPr b="0" lang="en-US" sz="4000" spc="-1" strike="noStrike">
              <a:solidFill>
                <a:srgbClr val="6b7d72"/>
              </a:solidFill>
              <a:latin typeface="Book Antiqua"/>
            </a:endParaRPr>
          </a:p>
        </p:txBody>
      </p:sp>
      <p:pic>
        <p:nvPicPr>
          <p:cNvPr id="340" name="Picture 3" descr=""/>
          <p:cNvPicPr/>
          <p:nvPr/>
        </p:nvPicPr>
        <p:blipFill>
          <a:blip r:embed="rId1"/>
          <a:stretch/>
        </p:blipFill>
        <p:spPr>
          <a:xfrm>
            <a:off x="2354400" y="0"/>
            <a:ext cx="4333680" cy="29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VOCABULAIRE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21456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564b3c"/>
                </a:solidFill>
                <a:latin typeface="Century Gothic"/>
              </a:rPr>
              <a:t>S’intensifier: devenir plus intense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22200" indent="-21456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22200" indent="-21456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22200" indent="-21456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22200" indent="-21456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22200" indent="-21456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22200" indent="-21456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22200" indent="-21456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22200" indent="-21456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22200" indent="-214560">
              <a:spcBef>
                <a:spcPts val="45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cccc00"/>
                </a:solidFill>
                <a:uFillTx/>
                <a:latin typeface="Century Gothic"/>
                <a:hlinkClick r:id="rId1"/>
              </a:rPr>
              <a:t>http://www.metrokids.com/MetroKids/November-2012/Bullies-parents-can-be-sued/</a:t>
            </a:r>
            <a:r>
              <a:rPr b="0" lang="fr-FR" sz="1800" spc="-1" strike="noStrike">
                <a:solidFill>
                  <a:srgbClr val="564b3c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564b3c"/>
              </a:solidFill>
              <a:latin typeface="Century Gothic"/>
            </a:endParaRPr>
          </a:p>
        </p:txBody>
      </p:sp>
      <p:pic>
        <p:nvPicPr>
          <p:cNvPr id="366" name="Picture 2" descr=""/>
          <p:cNvPicPr/>
          <p:nvPr/>
        </p:nvPicPr>
        <p:blipFill>
          <a:blip r:embed="rId2"/>
          <a:stretch/>
        </p:blipFill>
        <p:spPr>
          <a:xfrm>
            <a:off x="3238560" y="2573280"/>
            <a:ext cx="2646360" cy="307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VOCABULAIRE 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2124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564b3c"/>
                </a:solidFill>
                <a:latin typeface="Century Gothic"/>
              </a:rPr>
              <a:t>Railler: tourner en dérision, ridiculiser quelqu’un ou quelque chose par des moqueries, des plaisanteries plus ou moins vives 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18960" indent="-2124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18960" indent="-2124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18960" indent="-2124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18960" indent="-2124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18960" indent="-2124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18960" indent="-2124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18960" indent="-2124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18960" indent="-2124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cccc00"/>
                </a:solidFill>
                <a:uFillTx/>
                <a:latin typeface="Century Gothic"/>
                <a:hlinkClick r:id="rId1"/>
              </a:rPr>
              <a:t>http://gremlindog.com/category/random-ridiculous/</a:t>
            </a:r>
            <a:r>
              <a:rPr b="0" lang="fr-FR" sz="2000" spc="-1" strike="noStrike">
                <a:solidFill>
                  <a:srgbClr val="564b3c"/>
                </a:solidFill>
                <a:latin typeface="Century Gothic"/>
              </a:rPr>
              <a:t> </a:t>
            </a: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</p:txBody>
      </p:sp>
      <p:pic>
        <p:nvPicPr>
          <p:cNvPr id="369" name="Picture 2" descr=""/>
          <p:cNvPicPr/>
          <p:nvPr/>
        </p:nvPicPr>
        <p:blipFill>
          <a:blip r:embed="rId2"/>
          <a:stretch/>
        </p:blipFill>
        <p:spPr>
          <a:xfrm>
            <a:off x="3137040" y="2900520"/>
            <a:ext cx="2857320" cy="28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En France et en états-unis 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564b3c"/>
                </a:solidFill>
                <a:latin typeface="Century Gothic"/>
              </a:rPr>
              <a:t>Les élevés en général 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564b3c"/>
                </a:solidFill>
                <a:latin typeface="Century Gothic"/>
              </a:rPr>
              <a:t>statiques de suicide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564b3c"/>
                </a:solidFill>
                <a:latin typeface="Century Gothic"/>
              </a:rPr>
              <a:t>Au Québec 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564b3c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L’article 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457200" y="180468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564b3c"/>
                </a:solidFill>
                <a:latin typeface="Century Gothic"/>
              </a:rPr>
              <a:t>Questions: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499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564b3c"/>
                </a:solidFill>
                <a:latin typeface="Century Gothic"/>
              </a:rPr>
              <a:t>Selon cette article, pourquoi intimident-ils, les gens en réalité?</a:t>
            </a: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499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499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564b3c"/>
                </a:solidFill>
                <a:latin typeface="Century Gothic"/>
              </a:rPr>
              <a:t>Qu’est-ce PREVNET? Quel est l’objectif de PREVNET? </a:t>
            </a: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499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499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564b3c"/>
                </a:solidFill>
                <a:latin typeface="Century Gothic"/>
              </a:rPr>
              <a:t>Doit-on intervenir à un grand groupe ou aux individus? Pourquoi? </a:t>
            </a: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499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499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 u="sng">
                <a:solidFill>
                  <a:srgbClr val="cccc00"/>
                </a:solidFill>
                <a:uFillTx/>
                <a:latin typeface="Century Gothic"/>
                <a:hlinkClick r:id="rId1"/>
              </a:rPr>
              <a:t>http://quebec.huffingtonpost.ca/senator-mobina-jaffer/similarites-cyberintimidation-intimidation-en-personne_b_3660533.html</a:t>
            </a:r>
            <a:r>
              <a:rPr b="0" lang="fr-CA" sz="2000" spc="-1" strike="noStrike">
                <a:solidFill>
                  <a:srgbClr val="564b3c"/>
                </a:solidFill>
                <a:latin typeface="Century Gothic"/>
              </a:rPr>
              <a:t> </a:t>
            </a: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499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LES CAUSES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564b3c"/>
                </a:solidFill>
                <a:latin typeface="Century Gothic"/>
              </a:rPr>
              <a:t>Culturelle 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564b3c"/>
                </a:solidFill>
                <a:latin typeface="Century Gothic"/>
              </a:rPr>
              <a:t>Sociale 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564b3c"/>
                </a:solidFill>
                <a:latin typeface="Century Gothic"/>
              </a:rPr>
              <a:t>L’histoire de famille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564b3c"/>
                </a:solidFill>
                <a:latin typeface="Century Gothic"/>
              </a:rPr>
              <a:t>L’histoire personnelle 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564b3c"/>
                </a:solidFill>
                <a:latin typeface="Century Gothic"/>
              </a:rPr>
              <a:t>La lutte de puissance 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LES EFFETS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564b3c"/>
                </a:solidFill>
                <a:latin typeface="Century Gothic"/>
              </a:rPr>
              <a:t>La dépression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564b3c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564b3c"/>
                </a:solidFill>
                <a:latin typeface="Century Gothic"/>
              </a:rPr>
              <a:t>L’anxiété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564b3c"/>
                </a:solidFill>
                <a:latin typeface="Century Gothic"/>
              </a:rPr>
              <a:t>Pensées suicidaires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564b3c"/>
                </a:solidFill>
                <a:latin typeface="Century Gothic"/>
              </a:rPr>
              <a:t>Problèmes de santé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564b3c"/>
                </a:solidFill>
                <a:latin typeface="Century Gothic"/>
              </a:rPr>
              <a:t>La baisse de succés académique 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La vidéo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cccc00"/>
                </a:solidFill>
                <a:uFillTx/>
                <a:latin typeface="Century Gothic"/>
                <a:hlinkClick r:id="rId1"/>
              </a:rPr>
              <a:t>http://www.youtube.com/watch?v=17gJPpy1XX0</a:t>
            </a:r>
            <a:r>
              <a:rPr b="0" lang="fr-FR" sz="2400" spc="-1" strike="noStrike">
                <a:solidFill>
                  <a:srgbClr val="564b3c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564b3c"/>
                </a:solidFill>
                <a:latin typeface="Century Gothic"/>
              </a:rPr>
              <a:t>Questions: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499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499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564b3c"/>
                </a:solidFill>
                <a:latin typeface="Century Gothic"/>
              </a:rPr>
              <a:t>Que pensent-elles, ces personnes, au sujet de comment la police a besoin d’intervenir? </a:t>
            </a: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499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499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564b3c"/>
                </a:solidFill>
                <a:latin typeface="Century Gothic"/>
              </a:rPr>
              <a:t>Qu’est-ce le projet ‘Ultimatum?’</a:t>
            </a: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499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499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564b3c"/>
                </a:solidFill>
                <a:latin typeface="Century Gothic"/>
              </a:rPr>
              <a:t>Quel est l’avis de ces jeunes au sujet de la cyber-intimdation? </a:t>
            </a: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499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499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499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0" name=""/>
          <p:cNvGraphicFramePr/>
          <p:nvPr/>
        </p:nvGraphicFramePr>
        <p:xfrm>
          <a:off x="428760" y="250920"/>
          <a:ext cx="8264520" cy="6367320"/>
        </p:xfrm>
        <a:graphic>
          <a:graphicData uri="http://schemas.openxmlformats.org/drawingml/2006/table">
            <a:tbl>
              <a:tblPr/>
              <a:tblGrid>
                <a:gridCol w="2754000"/>
                <a:gridCol w="2756160"/>
                <a:gridCol w="2754360"/>
              </a:tblGrid>
              <a:tr h="4316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Produit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3a2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Pratique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3a2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Perspectif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3a299"/>
                    </a:solidFill>
                  </a:tcPr>
                </a:tc>
              </a:tr>
              <a:tr h="59356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0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0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0d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L’épreuve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Les réferences 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00"/>
                </a:solidFill>
                <a:uFillTx/>
                <a:latin typeface="Century Gothic"/>
                <a:hlinkClick r:id="rId1"/>
              </a:rPr>
              <a:t>http://www.stopbullying.gov/at-risk/effects/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http://www.bullyingstatistics.org/content/why-do-people-bully.html 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http://www.dosomething.org/tipsandtools/11-facts-about-cyber-bullying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http://www.bullyingstatistics.org/content/cyber-bullying-statistics.htm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http://www.larousse.fr/dictionnaires/francais 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http://files.efc-canada.net/si/Education/By_the_Numbers_Bullying_Report_April_2012.pdf 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500" spc="-1" strike="noStrike">
                <a:solidFill>
                  <a:srgbClr val="6b7d72"/>
                </a:solidFill>
                <a:latin typeface="Book Antiqua"/>
              </a:rPr>
              <a:t>Les questions pre-présentation 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457200">
              <a:spcBef>
                <a:spcPts val="601"/>
              </a:spcBef>
              <a:buClr>
                <a:srgbClr val="93a299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564b3c"/>
                </a:solidFill>
                <a:latin typeface="Century Gothic"/>
              </a:rPr>
              <a:t>Que savez-vous de la cyberintimidation? 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571680" indent="-457200">
              <a:spcBef>
                <a:spcPts val="601"/>
              </a:spcBef>
              <a:buClr>
                <a:srgbClr val="93a299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571680" indent="-457200">
              <a:spcBef>
                <a:spcPts val="601"/>
              </a:spcBef>
              <a:buClr>
                <a:srgbClr val="93a299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564b3c"/>
                </a:solidFill>
                <a:latin typeface="Century Gothic"/>
              </a:rPr>
              <a:t>Quelle sont les causes de la cyberintimidation? 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571680" indent="-457200">
              <a:spcBef>
                <a:spcPts val="601"/>
              </a:spcBef>
              <a:buClr>
                <a:srgbClr val="93a299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571680" indent="-457200">
              <a:spcBef>
                <a:spcPts val="601"/>
              </a:spcBef>
              <a:buClr>
                <a:srgbClr val="93a299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564b3c"/>
                </a:solidFill>
                <a:latin typeface="Century Gothic"/>
              </a:rPr>
              <a:t>Quelles sont les similarités entre la cyberintimidation et l’intimidation en réalité? Différences? 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571680" indent="-457200">
              <a:spcBef>
                <a:spcPts val="601"/>
              </a:spcBef>
              <a:buClr>
                <a:srgbClr val="93a299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571680" indent="-457200">
              <a:spcBef>
                <a:spcPts val="601"/>
              </a:spcBef>
              <a:buClr>
                <a:srgbClr val="93a299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VOCABULAIRE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564b3c"/>
                </a:solidFill>
                <a:latin typeface="Century Gothic"/>
              </a:rPr>
              <a:t>Intervenir: se mêler d’une action, d’une situation en cours en vue d’influer sur le cours des événements 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45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45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45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564b3c"/>
                </a:solidFill>
                <a:latin typeface="Century Gothic"/>
              </a:rPr>
              <a:t>http://www.picturesof.net/pages/100604-002117-620053.html </a:t>
            </a:r>
            <a:endParaRPr b="0" lang="en-US" sz="1800" spc="-1" strike="noStrike">
              <a:solidFill>
                <a:srgbClr val="564b3c"/>
              </a:solidFill>
              <a:latin typeface="Century Gothic"/>
            </a:endParaRPr>
          </a:p>
        </p:txBody>
      </p:sp>
      <p:pic>
        <p:nvPicPr>
          <p:cNvPr id="345" name="Picture 2" descr=""/>
          <p:cNvPicPr/>
          <p:nvPr/>
        </p:nvPicPr>
        <p:blipFill>
          <a:blip r:embed="rId1"/>
          <a:stretch/>
        </p:blipFill>
        <p:spPr>
          <a:xfrm>
            <a:off x="3048120" y="3220920"/>
            <a:ext cx="3047760" cy="195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VOCABULAIRE 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21456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564b3c"/>
                </a:solidFill>
                <a:latin typeface="Century Gothic"/>
              </a:rPr>
              <a:t>Intimider: inspirer à quelqu’un une crainte, un trouble qui lui font perdre son assurance 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22200" indent="-21456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22200" indent="-21456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22200" indent="-21456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22200" indent="-21456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22200" indent="-21456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22200" indent="-21456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22200" indent="-21456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22200" indent="-2145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564b3c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564b3c"/>
              </a:solidFill>
              <a:latin typeface="Century Gothic"/>
            </a:endParaRPr>
          </a:p>
          <a:p>
            <a:pPr marL="322200" indent="-2145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cccc00"/>
                </a:solidFill>
                <a:uFillTx/>
                <a:latin typeface="Century Gothic"/>
                <a:hlinkClick r:id="rId1"/>
              </a:rPr>
              <a:t>http://www.tidesinc.org/2012/06/18/let-go/</a:t>
            </a:r>
            <a:r>
              <a:rPr b="0" lang="fr-FR" sz="1800" spc="-1" strike="noStrike">
                <a:solidFill>
                  <a:srgbClr val="564b3c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564b3c"/>
              </a:solidFill>
              <a:latin typeface="Century Gothic"/>
            </a:endParaRPr>
          </a:p>
        </p:txBody>
      </p:sp>
      <p:pic>
        <p:nvPicPr>
          <p:cNvPr id="348" name="Picture 2" descr=""/>
          <p:cNvPicPr/>
          <p:nvPr/>
        </p:nvPicPr>
        <p:blipFill>
          <a:blip r:embed="rId2"/>
          <a:stretch/>
        </p:blipFill>
        <p:spPr>
          <a:xfrm>
            <a:off x="2876400" y="2581200"/>
            <a:ext cx="2954520" cy="27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500" spc="-1" strike="noStrike">
                <a:solidFill>
                  <a:srgbClr val="6b7d72"/>
                </a:solidFill>
                <a:latin typeface="Book Antiqua"/>
              </a:rPr>
              <a:t>VOCABULAIRE 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564b3c"/>
                </a:solidFill>
                <a:latin typeface="Century Gothic"/>
              </a:rPr>
              <a:t>Témoin: personne qui a vu ou entendu quelque chose, et qui peut éventuellement le certifier, le rapporter 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34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 u="sng">
                <a:solidFill>
                  <a:srgbClr val="cccc00"/>
                </a:solidFill>
                <a:uFillTx/>
                <a:latin typeface="Century Gothic"/>
                <a:hlinkClick r:id="rId1"/>
              </a:rPr>
              <a:t>http://www.shutterstock.com/pic-102244813/stock-photo-crowd-of-sports-spectators-seamless-repeats-horizontally-and-can-be-stacked-vertically-to-make-a.html</a:t>
            </a:r>
            <a:r>
              <a:rPr b="0" lang="fr-FR" sz="1400" spc="-1" strike="noStrike">
                <a:solidFill>
                  <a:srgbClr val="564b3c"/>
                </a:solidFill>
                <a:latin typeface="Century Gothic"/>
              </a:rPr>
              <a:t> </a:t>
            </a:r>
            <a:endParaRPr b="0" lang="en-US" sz="1400" spc="-1" strike="noStrike">
              <a:solidFill>
                <a:srgbClr val="564b3c"/>
              </a:solidFill>
              <a:latin typeface="Century Gothic"/>
            </a:endParaRPr>
          </a:p>
        </p:txBody>
      </p:sp>
      <p:pic>
        <p:nvPicPr>
          <p:cNvPr id="351" name="Picture 2" descr=""/>
          <p:cNvPicPr/>
          <p:nvPr/>
        </p:nvPicPr>
        <p:blipFill>
          <a:blip r:embed="rId2"/>
          <a:stretch/>
        </p:blipFill>
        <p:spPr>
          <a:xfrm>
            <a:off x="3098880" y="2768760"/>
            <a:ext cx="2946240" cy="275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VOCABULAIRE 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2214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564b3c"/>
                </a:solidFill>
                <a:latin typeface="Century Gothic"/>
              </a:rPr>
              <a:t>Témoignage: déclaration, déposition d’un témoin en justice 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32640" indent="-2214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32640" indent="-2214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32640" indent="-2214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32640" indent="-2214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32640" indent="-2214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32640" indent="-2214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32640" indent="-221400">
              <a:spcBef>
                <a:spcPts val="45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64b3c"/>
              </a:solidFill>
              <a:latin typeface="Century Gothic"/>
            </a:endParaRPr>
          </a:p>
          <a:p>
            <a:pPr marL="332640" indent="-221400">
              <a:spcBef>
                <a:spcPts val="45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64b3c"/>
              </a:solidFill>
              <a:latin typeface="Century Gothic"/>
            </a:endParaRPr>
          </a:p>
          <a:p>
            <a:pPr marL="332640" indent="-221400">
              <a:spcBef>
                <a:spcPts val="45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cccc00"/>
                </a:solidFill>
                <a:uFillTx/>
                <a:latin typeface="Century Gothic"/>
                <a:hlinkClick r:id="rId1"/>
              </a:rPr>
              <a:t>http://deanradin.blogspot.com/2013/04/show-me-evidence.html</a:t>
            </a:r>
            <a:r>
              <a:rPr b="0" lang="fr-FR" sz="1800" spc="-1" strike="noStrike">
                <a:solidFill>
                  <a:srgbClr val="564b3c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564b3c"/>
              </a:solidFill>
              <a:latin typeface="Century Gothic"/>
            </a:endParaRPr>
          </a:p>
        </p:txBody>
      </p:sp>
      <p:pic>
        <p:nvPicPr>
          <p:cNvPr id="354" name="Picture 2" descr=""/>
          <p:cNvPicPr/>
          <p:nvPr/>
        </p:nvPicPr>
        <p:blipFill>
          <a:blip r:embed="rId2"/>
          <a:stretch/>
        </p:blipFill>
        <p:spPr>
          <a:xfrm>
            <a:off x="3301920" y="2855880"/>
            <a:ext cx="254016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VOCABULAIRE 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564b3c"/>
                </a:solidFill>
                <a:latin typeface="Century Gothic"/>
              </a:rPr>
              <a:t>Menacer: chercher à intimider quelqu’un en lui faisant craindre quelque chose, en usant de menaces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34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 u="sng">
                <a:solidFill>
                  <a:srgbClr val="cccc00"/>
                </a:solidFill>
                <a:uFillTx/>
                <a:latin typeface="Century Gothic"/>
                <a:hlinkClick r:id="rId1"/>
              </a:rPr>
              <a:t>http://www.sodahead.com/living/if-either-your-parents-threaten-to-hurt-you-physically-would-you-believe-them-do-you-think-they-lov/question-755459/?link=ibaf&amp;q=&amp;esrc=s</a:t>
            </a:r>
            <a:r>
              <a:rPr b="0" lang="fr-FR" sz="1400" spc="-1" strike="noStrike">
                <a:solidFill>
                  <a:srgbClr val="564b3c"/>
                </a:solidFill>
                <a:latin typeface="Century Gothic"/>
              </a:rPr>
              <a:t> </a:t>
            </a:r>
            <a:endParaRPr b="0" lang="en-US" sz="1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34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64b3c"/>
              </a:solidFill>
              <a:latin typeface="Century Gothic"/>
            </a:endParaRPr>
          </a:p>
        </p:txBody>
      </p:sp>
      <p:pic>
        <p:nvPicPr>
          <p:cNvPr id="357" name="Picture 3" descr=""/>
          <p:cNvPicPr/>
          <p:nvPr/>
        </p:nvPicPr>
        <p:blipFill>
          <a:blip r:embed="rId2"/>
          <a:stretch/>
        </p:blipFill>
        <p:spPr>
          <a:xfrm>
            <a:off x="2814480" y="2803680"/>
            <a:ext cx="313236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VOCABULAIRE 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2077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564b3c"/>
                </a:solidFill>
                <a:latin typeface="Century Gothic"/>
              </a:rPr>
              <a:t>Harcèle: soumettre quelqu’un, un groupe à d’incessantes petites attaques 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12120" indent="-2077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12120" indent="-2077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12120" indent="-2077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12120" indent="-2077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12120" indent="-2077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12120" indent="-2077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12120" indent="-2077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12120" indent="-2077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cccc00"/>
                </a:solidFill>
                <a:uFillTx/>
                <a:latin typeface="Century Gothic"/>
                <a:hlinkClick r:id="rId1"/>
              </a:rPr>
              <a:t>http://jactherat.wordpress.com/2012/10/13/bullying-a-lifetime-calling/</a:t>
            </a:r>
            <a:r>
              <a:rPr b="0" lang="fr-FR" sz="2400" spc="-1" strike="noStrike">
                <a:solidFill>
                  <a:srgbClr val="564b3c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pic>
        <p:nvPicPr>
          <p:cNvPr id="360" name="Picture 2" descr=""/>
          <p:cNvPicPr/>
          <p:nvPr/>
        </p:nvPicPr>
        <p:blipFill>
          <a:blip r:embed="rId2"/>
          <a:stretch/>
        </p:blipFill>
        <p:spPr>
          <a:xfrm>
            <a:off x="2819520" y="2797200"/>
            <a:ext cx="3492360" cy="23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VOCABULAIRE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2077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564b3c"/>
                </a:solidFill>
                <a:latin typeface="Century Gothic"/>
              </a:rPr>
              <a:t>Contrefaçon: action d’imiter frauduleusement un objet ayant un caractère public 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12120" indent="-2077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12120" indent="-2077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12120" indent="-2077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12120" indent="-2077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12120" indent="-2077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12120" indent="-2077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12120" indent="-2077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12120" indent="-2077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12120" indent="-207720">
              <a:spcBef>
                <a:spcPts val="40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 u="sng">
                <a:solidFill>
                  <a:srgbClr val="cccc00"/>
                </a:solidFill>
                <a:uFillTx/>
                <a:latin typeface="Century Gothic"/>
                <a:hlinkClick r:id="rId1"/>
              </a:rPr>
              <a:t>http://hungryforgodsword.blogspot.com/2012/03/looking-at-each-other-for-lifetime.html</a:t>
            </a:r>
            <a:r>
              <a:rPr b="0" lang="fr-FR" sz="1600" spc="-1" strike="noStrike">
                <a:solidFill>
                  <a:srgbClr val="564b3c"/>
                </a:solidFill>
                <a:latin typeface="Century Gothic"/>
              </a:rPr>
              <a:t> </a:t>
            </a:r>
            <a:endParaRPr b="0" lang="en-US" sz="1600" spc="-1" strike="noStrike">
              <a:solidFill>
                <a:srgbClr val="564b3c"/>
              </a:solidFill>
              <a:latin typeface="Century Gothic"/>
            </a:endParaRPr>
          </a:p>
        </p:txBody>
      </p:sp>
      <p:pic>
        <p:nvPicPr>
          <p:cNvPr id="363" name="Picture 2" descr=""/>
          <p:cNvPicPr/>
          <p:nvPr/>
        </p:nvPicPr>
        <p:blipFill>
          <a:blip r:embed="rId2"/>
          <a:stretch/>
        </p:blipFill>
        <p:spPr>
          <a:xfrm>
            <a:off x="3301920" y="2913120"/>
            <a:ext cx="2527560" cy="32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07T15:04:46Z</dcterms:created>
  <dc:creator>Amreen Gill</dc:creator>
  <dc:description/>
  <dc:language>en-US</dc:language>
  <cp:lastModifiedBy>Stampfl, Monica</cp:lastModifiedBy>
  <dcterms:modified xsi:type="dcterms:W3CDTF">2013-10-09T21:41:47Z</dcterms:modified>
  <cp:revision>28</cp:revision>
  <dc:subject/>
  <dc:title>Cyber Intimidation</dc:title>
</cp:coreProperties>
</file>